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5F3-F3FC-4C32-9481-6AC90DCA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A6F-A9D1-4C16-879B-B61CE97A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751-D807-4F56-A560-34BB641E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32DD-CBDB-425A-9EC4-19F7F5BF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6838-8A73-442B-A016-607BAAEE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8DBD-690C-4EF0-B853-1628EBAB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414E-620E-4EB7-8618-C7A58E41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B641-55B3-44E6-B363-E66DE155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5ABE-92B0-41FE-AA5E-C02DA47A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74D0-BEA2-478F-A632-5DA3D9DC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20E1-DD13-47DD-B6A6-2BE0019B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F8A-85E6-4D31-9E0C-DDA18733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6719-C83E-4EBF-BFF2-E9BCDA95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2920-89F8-4AE2-9993-9631AC87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94C5-4FCC-45C1-BEA4-20BE9883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3724-0911-4744-ABCB-CCCF6694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5808-EB73-4FC6-A282-3BF8E462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8B9-80EB-4DA1-BBA2-F47A2BA2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1A5B-EFF0-469A-8C72-CE3EAA5C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F43-E228-4FB9-BE54-06F88E47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F5EF-C5C3-47EE-B06D-B3A3C8F1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7AA-3B56-4173-8A40-78DB9EAA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07BD-3404-4916-913B-5DB50358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E169-ABD7-4B7E-8832-04B511BE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DE87-8C4F-4104-BCB7-CA94B59B9607}" type="slidenum">
              <a:rPr b="0" lang="hu-HU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5D9F-BB32-49A8-AF94-15B05312BD59}" type="slidenum">
              <a:rPr b="0" lang="hu-HU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ff7c80"/>
                </a:solidFill>
                <a:latin typeface="Comic Sans MS"/>
              </a:rPr>
              <a:t>SEYCHELLE-SZIGETEK</a:t>
            </a:r>
            <a:endParaRPr b="1" lang="en-US" sz="4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123720" y="1371600"/>
            <a:ext cx="4800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7c80"/>
                </a:solidFill>
                <a:latin typeface="Comic Sans MS"/>
              </a:rPr>
              <a:t>   </a:t>
            </a:r>
            <a:r>
              <a:rPr b="0" lang="hu-HU" sz="2000" spc="-1" strike="noStrike">
                <a:solidFill>
                  <a:srgbClr val="ff7c80"/>
                </a:solidFill>
                <a:latin typeface="Comic Sans MS"/>
              </a:rPr>
              <a:t>Nemzetközi turizmusföldrajz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7c80"/>
                </a:solidFill>
                <a:latin typeface="Comic Sans MS"/>
              </a:rPr>
              <a:t>         </a:t>
            </a:r>
            <a:r>
              <a:rPr b="0" lang="hu-HU" sz="1800" spc="-1" strike="noStrike">
                <a:solidFill>
                  <a:srgbClr val="ff7c80"/>
                </a:solidFill>
                <a:latin typeface="Comic Sans MS"/>
              </a:rPr>
              <a:t>2006. április 13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87" name="seychelles.africa%5B1%5D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45147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1800" y="990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6699"/>
                </a:solidFill>
                <a:latin typeface="Comic Sans MS"/>
              </a:rPr>
              <a:t>Általános információk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1800" y="20574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115 szige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Kelet-Afrika partjainál                        az Indiai-óceánba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XII. században arab hajóso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1502. Vasco da Gam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1744. francia megszállá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1810. angol megszállá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1976. függetlensé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1993. új alkotmán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990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6699"/>
                </a:solidFill>
                <a:latin typeface="Comic Sans MS"/>
              </a:rPr>
              <a:t>Általános információk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Seychelle Köztársasá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Fővárosa: Victori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Hivatalos nyelv: angol, franci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Természetes vizek: 0%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Trópusi éghajl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Átlagos hőmérséklet: 29</a:t>
            </a:r>
            <a:r>
              <a:rPr b="0" lang="hu-HU" sz="2800" spc="-1" strike="noStrike" baseline="30000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Tenger átl. hőmérséklete: 28</a:t>
            </a:r>
            <a:r>
              <a:rPr b="0" lang="hu-HU" sz="2800" spc="-1" strike="noStrike" baseline="30000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Népesség: 81188 fő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6699"/>
                </a:solidFill>
                <a:latin typeface="Comic Sans MS"/>
              </a:rPr>
              <a:t>Gazdasá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GNP 71%-át a szolgáltatások adjá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Fő exporttermékek: tonhal, fahéj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Fő importtermékek: élelmiszer, kőolaj, gépek, berendezése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Főbb kereskedelmi partnerek: Egyesült Királyság, Olaszország, Franciaország, Hollandia, Szingapúr, Dél-Afrik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6699"/>
                </a:solidFill>
                <a:latin typeface="Comic Sans MS"/>
              </a:rPr>
              <a:t>Általános információk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Pénznem: seychellei-rúpi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Vallás: 90% katoliku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Közlekedés: repülő, hajó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Nemzetközi repterek száma: 7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Vízummentessé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Gasztronómia: hal, rizs, tenger gyümölcsei, friss zöldségek és gyümölcsö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Ételek: daube, rougaille, cari coco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6" name="daube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224820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money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22100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0040" y="10267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6699"/>
                </a:solidFill>
                <a:latin typeface="Comic Sans MS"/>
              </a:rPr>
              <a:t>Kultúra</a:t>
            </a:r>
            <a:br>
              <a:rPr sz="4800"/>
            </a:b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0" name="800px-Flag_of_the_Seychelles.svg%5B1%5D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733920" cy="2133720"/>
          </a:xfrm>
          <a:prstGeom prst="rect">
            <a:avLst/>
          </a:prstGeom>
          <a:ln w="0">
            <a:noFill/>
          </a:ln>
        </p:spPr>
      </p:pic>
      <p:pic>
        <p:nvPicPr>
          <p:cNvPr id="101" name="seychelles-st-anne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356256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church" descr=""/>
          <p:cNvPicPr/>
          <p:nvPr/>
        </p:nvPicPr>
        <p:blipFill>
          <a:blip r:embed="rId3"/>
          <a:stretch/>
        </p:blipFill>
        <p:spPr>
          <a:xfrm>
            <a:off x="4800600" y="41911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8640" y="990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6699"/>
                </a:solidFill>
                <a:latin typeface="Comic Sans MS"/>
              </a:rPr>
              <a:t>Turizmu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58672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GDP 20%-a, a bevételek 71 %-a, a foglalkoztatottak 70 %-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5" name="nouvel29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5029200" cy="35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6699"/>
                </a:solidFill>
                <a:latin typeface="Comic Sans MS"/>
              </a:rPr>
              <a:t>Kínál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057400"/>
            <a:ext cx="8458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Aktív turizmu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Kulturális turizmu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Vízparti üdülé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Városlátogatá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Ökoturizmu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Fesztiválturizmu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Főbb vonzerők: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Mahé, Victoria,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Praslin, Alphonse,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omic Sans MS"/>
              </a:rPr>
              <a:t>La Digue, Curieuse, Coco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9" name="praslin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2210040" cy="1371600"/>
          </a:xfrm>
          <a:prstGeom prst="rect">
            <a:avLst/>
          </a:prstGeom>
          <a:ln w="0">
            <a:noFill/>
          </a:ln>
        </p:spPr>
      </p:pic>
      <p:pic>
        <p:nvPicPr>
          <p:cNvPr id="110" name="Alp-overview-w650" descr=""/>
          <p:cNvPicPr/>
          <p:nvPr/>
        </p:nvPicPr>
        <p:blipFill>
          <a:blip r:embed="rId2"/>
          <a:stretch/>
        </p:blipFill>
        <p:spPr>
          <a:xfrm>
            <a:off x="4038480" y="1295280"/>
            <a:ext cx="2210040" cy="1371600"/>
          </a:xfrm>
          <a:prstGeom prst="rect">
            <a:avLst/>
          </a:prstGeom>
          <a:ln w="0">
            <a:noFill/>
          </a:ln>
        </p:spPr>
      </p:pic>
      <p:pic>
        <p:nvPicPr>
          <p:cNvPr id="111" name="tortugag" descr=""/>
          <p:cNvPicPr/>
          <p:nvPr/>
        </p:nvPicPr>
        <p:blipFill>
          <a:blip r:embed="rId3"/>
          <a:stretch/>
        </p:blipFill>
        <p:spPr>
          <a:xfrm>
            <a:off x="5257800" y="4952880"/>
            <a:ext cx="2438280" cy="1371600"/>
          </a:xfrm>
          <a:prstGeom prst="rect">
            <a:avLst/>
          </a:prstGeom>
          <a:ln w="0">
            <a:noFill/>
          </a:ln>
        </p:spPr>
      </p:pic>
      <p:pic>
        <p:nvPicPr>
          <p:cNvPr id="112" name="march" descr=""/>
          <p:cNvPicPr/>
          <p:nvPr/>
        </p:nvPicPr>
        <p:blipFill>
          <a:blip r:embed="rId4"/>
          <a:stretch/>
        </p:blipFill>
        <p:spPr>
          <a:xfrm>
            <a:off x="4876920" y="3048120"/>
            <a:ext cx="3124080" cy="15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00400" y="990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6699"/>
                </a:solidFill>
                <a:latin typeface="Comic Sans MS"/>
              </a:rPr>
              <a:t>Keresle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22860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ff"/>
                </a:solidFill>
                <a:latin typeface="Comic Sans MS"/>
              </a:rPr>
              <a:t>Átlagos tartózkodás: 9,5 na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ff"/>
                </a:solidFill>
                <a:latin typeface="Comic Sans MS"/>
              </a:rPr>
              <a:t>Átlagos szobakihasználtság: 60%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ff"/>
                </a:solidFill>
                <a:latin typeface="Comic Sans MS"/>
              </a:rPr>
              <a:t>Átlagos férőhelykihasználtság: 50%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ff"/>
                </a:solidFill>
                <a:latin typeface="Comic Sans MS"/>
              </a:rPr>
              <a:t>Cél: 82% vakációs cél, 8% üzleti cél, 10 % egyéb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ff"/>
                </a:solidFill>
                <a:latin typeface="Comic Sans MS"/>
              </a:rPr>
              <a:t>Ideérkezők száma: 130ezer, 2005-ben 128654 fő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ff"/>
                </a:solidFill>
                <a:latin typeface="Comic Sans MS"/>
              </a:rPr>
              <a:t>Ideérkezők 80%-a Európából, 10%-a Afrikábó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ff"/>
                </a:solidFill>
                <a:latin typeface="Comic Sans MS"/>
              </a:rPr>
              <a:t>156 db szálloda, 5698 szállodai férőhelly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ff"/>
                </a:solidFill>
                <a:latin typeface="Comic Sans MS"/>
              </a:rPr>
              <a:t>Odautazó magyarok száma: 1000 fő (773, 227)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5" name="airseychelles2" descr=""/>
          <p:cNvPicPr/>
          <p:nvPr/>
        </p:nvPicPr>
        <p:blipFill>
          <a:blip r:embed="rId1"/>
          <a:stretch/>
        </p:blipFill>
        <p:spPr>
          <a:xfrm>
            <a:off x="6095880" y="457200"/>
            <a:ext cx="2590920" cy="1752480"/>
          </a:xfrm>
          <a:prstGeom prst="rect">
            <a:avLst/>
          </a:prstGeom>
          <a:ln w="0">
            <a:noFill/>
          </a:ln>
        </p:spPr>
      </p:pic>
      <p:pic>
        <p:nvPicPr>
          <p:cNvPr id="116" name="hotel2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590920" cy="1752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9T16:16:59Z</dcterms:created>
  <dc:creator>Melinda</dc:creator>
  <dc:description/>
  <dc:language>en-US</dc:language>
  <cp:lastModifiedBy>Melinda</cp:lastModifiedBy>
  <dcterms:modified xsi:type="dcterms:W3CDTF">2006-04-11T16:30:40Z</dcterms:modified>
  <cp:revision>26</cp:revision>
  <dc:subject/>
  <dc:title>SEYCHELLE-SZIGETEK</dc:title>
</cp:coreProperties>
</file>